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758-EA6D-4EDE-A090-7F8383D9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3DC-1C69-4FC6-AD8D-5B7B46A6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266-CF89-407C-901E-81C24AB1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02A-8EC4-48E5-A1ED-477954FD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4E8-3DD1-473C-A4DF-E51EF0F1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B43-7DA8-48CD-A8B0-96DF0FF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B83-DBEA-48A2-9FE1-9C81B154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456-949D-45FD-9C99-8B753193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CB4-592F-4311-8DA6-309CB42D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C56-244B-4EEF-8CA1-3EA22A5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1D7-8177-4414-9A72-CA9FA24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2C6-F983-437C-B9D6-7A7ED155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5791-CECC-42A0-921F-E595B12F67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40A10A5-B651-4B47-ADEF-E3181448EFE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ИНИСТЕРСТВО НАУКИ И ВЫСШЕГО ОБРАЗОВАНИЯ РОССИЙСКОЙ ФЕДЕРАЦИ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едеральное государственное бюджетное образовательное учреждение высшего образования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«Рязанский государственный радиотехнический университет имени В.Ф. Уткина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федра промышленной электрон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0" y="1557360"/>
            <a:ext cx="91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выпускной квалификационной работе</a:t>
            </a:r>
            <a:br>
              <a:rPr sz="2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ма выпускной квалификационной рабо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0" y="4292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ийся: студент гр. 723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тров И.С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ководитель: к.т.н., доцен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оров А.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язань, 2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CEE4168-2EC2-42A2-A3FB-9275298FC85B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ыводы по рабо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11E5110A-F9D5-4C11-9435-994961EEECC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0" y="11160"/>
            <a:ext cx="914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убликации по работе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0" y="9810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робация результатов работы производил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2-х конференци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0" y="371628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работы были опубликованы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2-х научных статьях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Библиографическая ссылка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Библиографическая ссылка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73E0FB8-3753-4AB2-98A2-9DA8EEA5F97A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уальность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0" y="335772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учная новизна работы (для магистров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B443C04E-1F5A-4124-B9AE-12C075F63996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0" y="0"/>
            <a:ext cx="9144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и задачи рабо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7DA6546C-619E-4D69-A3A0-501A5A977754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оретическая часть (кратко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D1431C95-7EBD-46D6-8C0A-1D88EDCE6250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четная часть (кратк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A86B05C-19FF-4EF1-B65B-EDDB9FBC267C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Заголовок 1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201F7681-6E52-4406-92A1-826483B2ED6E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A8C5B905-54F7-425E-89D9-CA80A1671973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356520"/>
            <a:ext cx="259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Слайд </a:t>
            </a:r>
            <a:fld id="{C6A0F93B-4EAB-4E95-9A8C-01684F45F531}" type="slidenum">
              <a:rPr b="1" lang="en-US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0" y="1116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зультаты работы (подробно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9T06:13:54Z</dcterms:created>
  <dc:creator>Пользователь Windows</dc:creator>
  <dc:description/>
  <dc:language>en-US</dc:language>
  <cp:lastModifiedBy>ASUS</cp:lastModifiedBy>
  <dcterms:modified xsi:type="dcterms:W3CDTF">2019-06-20T03:33:41Z</dcterms:modified>
  <cp:revision>23</cp:revision>
  <dc:subject/>
  <dc:title>МИНИСТЕРСТВО НАУКИ И ВЫСШЕГО ОБРАЗОВАНИЯ  РОССИЙСКОЙ ФЕДЕРАЦИИ Федеральное государственное бюджетное образовательное учреждение  высшего образования  «Рязанский государственный радиотехнический университет имени В.Ф. Уткина» Кафедра промышленной электроники</dc:title>
</cp:coreProperties>
</file>